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7656-1A62-428D-9A11-67171971E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A817-B648-4676-8B38-FE8087198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B8A4-E8E7-4582-A523-1C74C412E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1A27-DAF2-4807-8240-452F0AE30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35A9-C570-4548-997A-D568A4926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F207-28E5-461C-A212-8B4B6AE5F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0CD1-B797-470D-AC7E-E5E9255D6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90CC-50A5-4830-B4B2-27C938471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FE89-9294-44F4-95AC-0E813E70C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F377-6DBD-46DE-ADD8-0420EAFA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D4E0-A7E7-461C-9F54-C8532BA7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1211-0ACC-4FF6-AAFF-3B9D8A31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DC81E-381A-42E1-AF20-A36D1FE67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14400" y="0"/>
            <a:ext cx="739152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ff">
                    <a:alpha val="47000"/>
                  </a:srgbClr>
                </a:solidFill>
                <a:latin typeface="Times New Roman"/>
              </a:rPr>
              <a:t>Famoso Personas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ff">
                  <a:alpha val="47000"/>
                </a:srgbClr>
              </a:solidFill>
              <a:latin typeface="Times New Roman"/>
              <a:ea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80880" y="3809880"/>
            <a:ext cx="857268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99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By Amy Palombo, Avril Burke, and Yaa Ansah</a:t>
            </a:r>
            <a:endParaRPr b="0" lang="en-US" sz="1800" spc="1" strike="noStrike">
              <a:ln w="0">
                <a:noFill/>
              </a:ln>
              <a:solidFill>
                <a:srgbClr val="cc99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09840" cy="44197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895120" y="685800"/>
            <a:ext cx="579132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Channing Tatum es moreno no es rubio. </a:t>
            </a:r>
            <a:r>
              <a:rPr b="0" lang="es-ES" sz="2800" spc="-1" strike="noStrike">
                <a:solidFill>
                  <a:srgbClr val="99cc00"/>
                </a:solidFill>
                <a:latin typeface="Arial"/>
              </a:rPr>
              <a:t>Él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 muchacho es muy mucho guapo. </a:t>
            </a:r>
            <a:r>
              <a:rPr b="0" lang="es-ES" sz="2800" spc="-1" strike="noStrike">
                <a:solidFill>
                  <a:srgbClr val="99cc00"/>
                </a:solidFill>
                <a:latin typeface="Arial"/>
              </a:rPr>
              <a:t>Él muchacho es alto no es bajo. Channing Tatum es de California. Él nacionalidad es America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266720" y="13716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rique Iglesias es moreno no es rubio.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É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chacho es alto no es bajo.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Él serio no es grasioco. Enrique Iglesias es de Florida. Él nacionalida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 es Hispánic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30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f3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23920" y="1371240"/>
            <a:ext cx="4038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uno Mars es feo no es guapo.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É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s popular no es timido. Bruno Mars es moreno no es rubio.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Él nacionalid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s Americano. Bruno Mars es de Los Angles, Californ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14800" cy="28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181120" y="1600200"/>
            <a:ext cx="3429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cc00ff"/>
                </a:solidFill>
                <a:latin typeface="Arial"/>
              </a:rPr>
              <a:t>Katy Perry es morena no es rubia. Ella es popular no es timida. Katy Perry es de California. Ella es linda no es fea. Ella nacionalidad es Americ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0258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iana Grande es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elirroja no es morena o rubia. Ariana es popular no es timida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la muchacha es de California. Ariana es America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6528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4T22:12:30Z</dcterms:created>
  <dc:creator>Rob</dc:creator>
  <dc:description/>
  <dc:language>en-US</dc:language>
  <cp:lastModifiedBy>Rob</cp:lastModifiedBy>
  <dcterms:modified xsi:type="dcterms:W3CDTF">2012-10-10T01:07:54Z</dcterms:modified>
  <cp:revision>6</cp:revision>
  <dc:subject/>
  <dc:title>Slide 1</dc:title>
</cp:coreProperties>
</file>